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698-2790-4F6C-9C91-ECBC0567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0C6-61E5-4B48-87A3-81265117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DEA-0208-49F5-B06B-A860EE84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9C3-6B22-4188-8319-CE65B467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764-FD77-44FC-9793-16D8A498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4E1-B68D-44FF-A3ED-F067327B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1B3-640F-4B70-9C56-9A16B906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747D-8B43-4A44-BB65-D3C6F253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DF2-AEC6-4CA8-8340-C62C7566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0B9-0BDE-4294-8674-942D6785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E51-A170-481F-8785-A43EC3D4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D91-0ACE-4A18-87FE-8DF075F4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1855-4FBC-4D39-BC84-A0A1433E3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39040" y="64389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2A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Mobilization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06760"/>
            <a:ext cx="8229600" cy="35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542960"/>
                <a:tab algn="l" pos="4629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Mobilization Proce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542960"/>
                <a:tab algn="l" pos="4629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542960"/>
                <a:tab algn="l" pos="4629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34324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i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R 600-8-101 (In-, Out-, and Soldier Readiness, Mobilization, and Deployment Processing) and DA Form 7425 (Readiness and Deployment Checklis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146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ndard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Identified the different Levels of Readiness and Mobilization Processing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146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146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Identified correct procedures and requirements for Soldier Readiness Processing using DA Form 74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19:10:42Z</dcterms:created>
  <dc:creator>ADG</dc:creator>
  <dc:description/>
  <dc:language>en-US</dc:language>
  <cp:lastModifiedBy>Administrator</cp:lastModifiedBy>
  <cp:lastPrinted>1998-11-10T22:32:18Z</cp:lastPrinted>
  <dcterms:modified xsi:type="dcterms:W3CDTF">2005-07-08T12:19:04Z</dcterms:modified>
  <cp:revision>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C\CCC5H103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